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BF4-B4CA-4135-82C0-6F018588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D90-9397-4B66-A2CB-5FFB3FA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5EA-29ED-4016-9D76-76794F78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0F2-CFD6-4538-9A71-734AD574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E3EB-C2E5-4397-A132-722D0C21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9841-D270-4C0B-936D-EF90495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0357-1A7C-402D-9D3A-75290809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FDA8-8A16-4764-B1A6-A48F1C2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5C5-DCC3-4789-9AFE-FC8E0A9E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07A9-EC1B-4271-B305-117E09B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D9C2-46E6-41CF-9C78-71E5075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4F7-5997-4309-9D08-191EA31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435-A51E-4A48-86E6-DF83776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28F-E894-4BBA-A057-03F0E67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7DB4-7075-43FF-8DDE-0411804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951-7698-4397-9FEC-D7E5A697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6AA8-C58C-466F-93FC-D2FD9462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2EA-971D-4681-9C1A-C1080E0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E81-383F-4208-B9FD-1FDD920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1B0-BFB7-4F34-BC3D-54BF79F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A06-68BF-4EC7-A116-FD10150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42A-D637-491D-AFD3-52B6DBB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533-D7B0-4040-9FA6-FAE176C4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DF-E357-4AE7-AA49-B57D580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1865-4A93-4EF7-9805-1145CCFA859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B4C-EB61-434E-8F11-29045B73E68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07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ROZSZERZ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80920" y="998640"/>
            <a:ext cx="3286440" cy="557280"/>
            <a:chOff x="880920" y="998640"/>
            <a:chExt cx="3286440" cy="557280"/>
          </a:xfrm>
        </p:grpSpPr>
        <p:sp>
          <p:nvSpPr>
            <p:cNvPr id="99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2367000" y="1574640"/>
          <a:ext cx="486072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574640"/>
                    <a:ext cx="48607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16680" y="356364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em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cznik i mianowni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86280" y="3429000"/>
                <a:ext cx="21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357720" y="3563640"/>
            <a:ext cx="59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nożyliśm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stępni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tem znowu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4141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 ile rozszerzono uła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6280" y="4643280"/>
          <a:ext cx="6705720" cy="17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6280" y="4643280"/>
                    <a:ext cx="67057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14" name=""/>
            <p:cNvSpPr/>
            <p:nvPr/>
          </p:nvSpPr>
          <p:spPr>
            <a:xfrm>
              <a:off x="1464120" y="1897560"/>
              <a:ext cx="6324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zszerzając ułamek należ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icznik i mianownik ułamk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omnożyć przez tą samą liczbę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óżną od 0 i 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6:14Z</dcterms:modified>
  <cp:revision>42</cp:revision>
  <dc:subject/>
  <dc:title>Slajd 1</dc:title>
</cp:coreProperties>
</file>